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B2A-3839-422A-B5F4-10C0C71F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991-1A20-4356-97C2-3D662D66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7FC-D0D9-411D-83D4-720C6596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295-3E2F-48B7-BBEA-12F32B59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27D-2FE3-4BED-9709-3B269F66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577-16C8-4CEB-9683-B821ADF2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6ED-3C89-451D-A9FC-A5432668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C76-AC12-4D03-BE58-B0A0D1F0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F81-BC8D-4A40-81BC-CF06F172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E9E-4E8B-4557-A6F2-5A08EA69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957-3E1C-4BDB-8C6D-EF63EE26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871-22D0-493E-A6DB-33CB3745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6B48-E167-43F9-BA23-45B8C8903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revorasserson1" descr=""/>
          <p:cNvPicPr/>
          <p:nvPr/>
        </p:nvPicPr>
        <p:blipFill>
          <a:blip r:embed="rId1"/>
          <a:stretch/>
        </p:blipFill>
        <p:spPr>
          <a:xfrm>
            <a:off x="2833560" y="0"/>
            <a:ext cx="483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9:37:37Z</dcterms:created>
  <dc:creator>user97</dc:creator>
  <dc:description/>
  <dc:language>en-US</dc:language>
  <cp:lastModifiedBy>user97</cp:lastModifiedBy>
  <dcterms:modified xsi:type="dcterms:W3CDTF">2010-04-28T09:37:56Z</dcterms:modified>
  <cp:revision>1</cp:revision>
  <dc:subject/>
  <dc:title>שקופית 1</dc:title>
</cp:coreProperties>
</file>